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notesMasterIdLst>
    <p:notesMasterId r:id="rId22"/>
  </p:notes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  <p:sldId id="27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notesMaster" Target="notesMasters/notesMaster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slide" Target="slides/slide19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dt" idx="5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 type="ftr" idx="6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 type="sldNum" idx="6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FFCD5-B37F-4F5C-956E-DBE471BA5B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7E2C6-738C-42B8-83E8-5F47DE9CAF7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DA1F5-CF21-4EB9-AEA7-5B9E2D7F1D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veloped from the Federal Government’s ILR scale by the American Council of Foreign Languages, the ACTFL proficiency scale has 4 main levels (Novice, Intermediate, Advanced and Superior. The first three levels are each subdivided into 3 sub-levels (Low, Mid and High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27175-BAD2-4752-A1E6-B06C1B3995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3722-E947-444F-8672-D31EE1472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F481-316D-4430-AD94-20F7E3F82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9BD73F-020D-40FF-BDD3-58AC7EB8C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E6F5C6-69B0-4F93-A764-BF4232FAD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FB5572-DD84-452C-87FE-2B762E4BB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BC9270-6546-4DB1-BD82-CD00F4E6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51F991-AFFB-44D7-B150-5862460C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DD6C0F-D290-49F6-87B5-3D81D003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75B855-DE5F-40D8-934B-83AEDACD0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4979A9-4BB3-4E94-92A1-413EA1D01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080753-7035-4278-8B51-E6F2EC5D0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AA6820-9FF0-4BEF-9397-A14E77553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7DB0-EFC1-4C26-AEBA-1DD4ECEE1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723E64-0458-433E-8B51-3FBCE1C79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AB6E25-1747-4F7F-9174-6CE22E382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864173-7CD7-4CC8-81EA-641D45130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04A83E-A1BC-44F4-91B9-BD3AB883B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2BFB9C-217A-48D7-AC1D-CB73E766A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082B48-84FF-4260-809F-B33ADFA6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653C0E-6009-42D2-B3A4-1E2709DE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63D1F4-0462-4C0B-ACBF-AB0EEB20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48CC0F-D826-4E24-84BE-3CD7E4E5B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0DB33A-4243-401A-AC61-182B9BAAC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D833-C075-477A-A89E-7AFF85F24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449D56-333E-435F-9463-56BE2C106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34AAEDE-58D3-4F24-99B6-833F7EEFD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5464FF1-B650-43EE-9AE5-B1806BEA9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04957A4-8220-475D-892C-7C1D0C530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9060B91-DFCA-4DFB-9FC0-78B8FFF20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1B4471F-E48A-4D39-B9CA-8B543D204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2C664CA-7EB3-43F8-BC5A-655FEB0FB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31C98E6-9A99-4C41-ADB4-2A7F2D87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39FD650-3EE5-40D1-819B-3AB24A63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E93F23C-BE06-4C37-8C98-79AEAB62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4D0A1-9BA9-4043-9FD2-FA6934A3D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EAAEA76-DD5A-42D9-853A-DB65E214C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29024B4-B2DE-4720-9714-1B567F433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CBC6B13-DA77-4FB9-819E-FA0E5E7C1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2B3EA3-669E-413B-9ECC-4BAF607B8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ACFE04-69FF-45AB-925D-0269D0C25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4A1AA3-B511-48A5-956F-E03BA28F3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AE0611-07F9-4E11-9CA9-268D08EC0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F33034-650A-4AF4-B6AE-AAA6C9FB8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5D0AEF-EEBD-4389-B000-45EAD8C15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17EE4D-15D9-4E13-A9F3-FF77B6F3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CF21D-48F9-43D0-853D-94A2B2292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4C579C-5DFB-4AE0-B378-7B5FFB51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9166F4-289E-43A2-8EB7-5662DD97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E51671-296B-43FF-AA0C-3B335B491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3293C7-59EB-4F34-B687-8F4A7ED77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EAD503-77F8-459A-9059-1BC3CCD8B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4089D0C-8DE7-44EF-8BB2-9767F7459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7ACB3F4-0E2D-40FE-AB4F-122231CCA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45AF5FF-C899-474C-9A23-732ACD95E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9DC890C-B1CC-45A5-BAE2-EF776A8ED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BA67AA8-FAF4-4532-B0D1-F1F35D991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8A912-781F-4C82-B350-0C30DA799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973AB6C-9271-4ABA-A2C5-45EC9CAA4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FD9F402-C410-4D73-8AFF-D093B005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2DDAA2C-5DD4-4ED4-8EC2-BF9BD0E1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B07511D-D1BA-43C0-ADA8-8F7CFEDF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D3B1008-5024-477B-B660-A24F684C3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99609CE-D23A-4042-8F99-2324AD6C2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2163420-9751-4765-9035-7D83EAF34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B3AB180-D163-496C-9F86-1FC278A36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77968DC-E98F-4EA5-ADE6-085E9C9F7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CB4AA8D-276D-4709-A383-258204E5E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40280-5A9B-4B2B-B78C-941EF0201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45A316E-EE1C-4B35-8E28-391EAADE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A86AE8A-8E92-4D32-B3EF-3F8CDC3F4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DC82B77-F1DC-4FA5-BB54-A6C1562DD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EE4FFB0-7298-4516-A142-5D93C0C4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ACF4333-CDD7-4399-AEC4-015D653C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BA4A50E-693A-4427-A845-8D2CEFF7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B56C4B7-319D-4EB4-8ED0-A9E9EEBAE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672EE08-A88F-421D-8D14-B4B69E414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3F5358E-3A73-427D-AED8-A4FCFCE26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F32D4A9-57A9-4CCD-80E2-98E332884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C3646-1E79-4CE1-A80E-9EB11AB2D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E58000C-3A84-43EA-B6C3-128CAD808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5C1E536-0601-4C04-91E6-A0B99CEC9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9A7F69F-893A-4FCE-9ACE-749D49625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341C4F7-512D-466A-A5F1-6A50C0697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9771477-13D1-4370-9117-7F65079A4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DF65C09-6570-444E-8274-791258B7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F70F3B3-3FBF-4ACE-BC45-42A6B495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C023F41-EB6A-4CC2-B154-6CA33A64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A6AB5C2-D9E6-4036-99B0-302D33124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1165351-4FB4-43E0-BD0E-FE54319DE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DA7A0-0F6A-4027-8C2E-CD50A8FB5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0C4974B-9B02-4971-BF1B-8984B9AA3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A4DE943-2298-48AA-945B-07D7AC007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C11D300-2B56-40A0-B9CA-0EE2AF697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244A479-0A7B-432A-894D-BEB396CE6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700409A-FB35-46F7-A33C-FA72621DE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6A17139-52D7-4DEB-BE55-51C950B2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AFCB514-5575-466E-AC55-12377499A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33FFD50-46A2-4C34-9C82-BC9947EE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2353F2F-D884-4C50-88BB-DD6C577A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0C48335-298A-4184-9B56-EB827EF3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682D3-61A5-41DC-B538-894EB0DB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8185863-EE46-4840-A8BD-C283FE123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8A20DB1-7395-489A-B91A-E69A97DDF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591E92C-59F4-4945-8C36-D2AD2AF44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02B0DB9-073D-488B-9DD5-E216CEDEE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C2B74C7-AE77-418B-BAA0-5251C6965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0861265-6234-4BCB-9370-8C8536553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E9900B7-EFA1-4BC4-B1D3-F325D4A6E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2C9A226-962B-4819-8795-C4A475466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97B33C4-336F-4E74-BF89-C2BAB1A16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AFCBC9D-9995-4D79-B77A-3653F023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8DDD-F1F5-4141-BBF0-142B05A8F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EF71B-59EC-4455-8987-7C163B17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58612E6-6E45-4FCB-8679-F6A82137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1560BE4-13BA-4975-9F1E-E1ED369C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04615A4-609D-4386-8061-9DB9785AE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671F3BF-E2A3-4064-8FEE-C5A404916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0438A39-B435-4A55-A95B-FC7C9E475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459C2B5-330C-4ED2-89BC-1D5B6DD1E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8CF5B35-D3B1-475C-AC58-791CA07C0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F806AC1-3DD6-408B-B26D-C8CE70EA0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75C248B-B733-4C46-90A8-BA80B8EB7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5B8DA54-3D05-4242-8871-C33CAAFD2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FC957-54E4-45D1-83B0-A1105239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1B577BE-B2F4-4EDB-B328-E8B14889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4B2192B-8821-4991-830A-B59C7525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837EA50-871D-4185-A1E2-0B6D9DEE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AC780B1-791B-4C84-80AA-90310F55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8297A52-0870-43BF-8659-257571597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336A6FB-5C83-4976-91B2-521D53F4E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53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54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0C4D0BE-E2C1-472F-86AA-A3A67983E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60F3189-8021-4E47-804F-14780D5BF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6F2332A-917C-45CA-8067-C8B391FBA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39CF7BA-45FE-44FB-8E11-CD2431ABC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23074-3183-45A7-99D9-8538F247B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8286E3A-4878-40F0-A6BA-1AB439927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204D192-BCA1-4D68-9624-B76464E28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DDEC27B-2A44-4FE3-A507-788100C57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B80EE4C-4F47-425F-9D07-45DC645C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FF54831-1954-4AEB-9E6A-58332833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A90E749-FDB7-4621-BDE7-8E43EE43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9086A49-308E-4525-B4FB-EAFCFAB3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B090905-2BD6-41F5-83F7-38F03B015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029B1FD-3E5B-41AF-BB56-62C51E846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1F9C0D3-2DBD-448B-9BF5-E8B684322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A66ED-70FE-4B96-9D59-CC702411B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6CEECC6-E7E6-4341-91A8-11241DF89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8E05B82-000E-49AA-B180-BF1F6CA62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4012ABE-FA0D-4F8B-8916-506FD55CB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64DB3C3-D74B-4003-8EE0-C7984B340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2AAABAF-72AA-40C0-AB29-CBB789CFB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C6D30D0-518A-4977-83EF-8E64FFDD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4623D58-BDF1-4F17-B6F7-E2B71B8F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079138C-0BA0-4105-A8CF-FE631295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AEEFA7A-965D-4B34-B23E-D63A88801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153208E-CC31-4FAB-8A1C-0656C1CED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9BF77-212A-4083-8AF8-2FFDFBF92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0B302AA-2FE2-4F1A-B9D9-C845C8438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55F66-A781-4DBF-AEDD-01D01AB3D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B1D7F-FDA6-44F5-871F-765D5FDD3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CBC26-B420-4EE3-9F19-DD2BB29D4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01368-4A7A-44F0-813C-77F291656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1E5A7-3F42-4B68-9C6F-E88B06145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CAE4-49AF-4072-9015-2FD65CCF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3A3A8-DEE6-41EF-B75A-27CCE3C4D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E830E-3666-4F01-939F-89846241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01B78-277A-44AD-BB7C-CB4FEF70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7F0DA-73B8-4B8B-81A7-53004D2B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C2ABF-2059-4C1E-BF53-07B0392A5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9769E-12F8-4108-BC31-4EE6E6D66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D7684-0C22-46B4-AF16-A16ED9DF7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1259B-3F70-4886-83CC-8051E3670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E9A82-7641-4950-AFFB-FAD7BB526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FC919-44FB-4AF7-A1D7-7C202F09E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9F57-7D45-4A4F-8060-B6DB3418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CA4DD-0487-4E60-9810-46BDF26A0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B04FC-A058-48D3-BC05-5AD6886CA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C74FC-70B5-4CC1-8673-CCBB26D00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E9C7A-725A-4AE9-8DAC-8F783AA1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E884F-1C1A-4107-84AF-7395FB93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97F60-B91E-46FF-8B25-EAF4A8F5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20D8E-0D14-4BBA-B95A-AE5138595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B12B6-B22E-4F2B-99D3-5B950039D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94AB9-779B-48F4-BC71-DB230B3AD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75573-A3B0-4FBB-ABE5-348CFEABC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8785-43F3-4A89-9C96-2B34789A4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ABC53-3275-4F3C-A741-D61A8DAE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988A4-9CC0-49E2-9587-333EFB425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34FDA-1655-418B-866C-DAF6776CE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B0643-089A-4186-90C0-9706F5DBA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3BD16-A631-4120-8199-C080EA708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0F197-ABA3-4B97-A735-C51B2FFC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6040F-A73D-4C6A-9185-4FF00754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013B2-EB12-4C85-A66B-C606C8BA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D65F4-F4BC-4B37-9975-B828723ED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0E23A-0E2C-4AE0-A143-1FFCADC94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40A4-6A2F-4047-98E5-35C97C085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6F93A-B82D-4DBD-919F-5928BF820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9C70A-059E-4B94-B559-1DE7B0892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C5562-FCC5-4925-8FA2-F6C822796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85A92-9F11-45E6-BF70-C5F237C35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AF68E-0437-4AA1-84F2-702DA0036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8994B7-A4F8-468B-B453-71A8CA045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5FB43-D384-44B7-83F0-2F724E29B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32FF2-41E7-400B-AE7B-F6C83992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431A7-482E-41F6-A859-719D2BB2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AF172-902E-4766-8489-3D7EE14C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060E-B657-4F6F-99AF-012098F4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AC571-AE70-4F63-9BBD-15DEFAAFE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F0FF76-C86B-4757-A14B-FEFB4BADB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06ED4-306F-4674-9536-BCE6B33E4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147A4FC-66C5-46EE-A3F6-E977DE51C9A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6633009-0AD6-4B03-B8FD-4A7A517ECD3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AF29D47-2967-4C16-85ED-4FF3D5E640D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703D90C-139C-48D5-8377-1B81FB3DED0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5FA69A5-F7F6-4A32-A754-74BDE1F687D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0C9C541-9999-4599-9842-2A0BC1B5766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46EBF80-8C7C-41B9-9FEC-9286BCB9D1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8F12-94A7-45D9-AA27-F13F7B81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D1BDDF-E9B6-494A-B36F-3493A87B47C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6C66F64-ADBB-4C4E-8011-21A8E99411C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8851D6A-D133-452E-A855-26EFD8D85C9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EC0B31B-8C6A-48A2-BE1D-523E8125F95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62665F9-55BA-4387-88B4-48BC69885F0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084F4C8-BA8D-41A6-993D-4C55E7A71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1475AEA-E79D-4C76-A319-B593BC32F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9549E22-F35B-44A9-8FE2-DA9853F96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8F2C847-A9AD-4105-B371-B308C4887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C19F6F9-3858-4F05-BBDA-28535FA2B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3432-7F05-4D57-B636-DCBDABB2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BFAFA50-4DCA-4A48-89E8-9E0C9A5E2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584B4D8-1A76-4F46-8478-EBE9DD6B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ABDC9D5-090F-4CDD-97F5-87749810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ED73647-2C1B-405F-B879-3639EFEA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3A0EBC9-19F0-4093-9AFA-C58B4FAC1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E8EBEE6-DA81-4700-9C29-BF7F83FAE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746AC1F-2F59-410A-924C-DA9032B3A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CD398B-82BC-40E8-987D-DD6302FF0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DE6820-AFB5-4DAD-B0B4-EC74F6656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D75EA2-7031-4793-A194-6C2B56D2B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85858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75461-45A4-481E-824D-6F01A760A980}" type="datetime">
              <a:rPr b="1" lang="en-US" sz="1100" spc="-1" strike="noStrike">
                <a:solidFill>
                  <a:srgbClr val="858585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C0F93-340A-4D67-A70A-A26073033F0E}" type="slidenum"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6"/>
          <p:cNvSpPr/>
          <p:nvPr/>
        </p:nvSpPr>
        <p:spPr>
          <a:xfrm>
            <a:off x="8148600" y="268200"/>
            <a:ext cx="719280" cy="1646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6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85858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912C2-F19B-4E0F-BCF2-4D414FE8AD57}" type="datetime">
              <a:rPr b="1" lang="en-US" sz="1100" spc="-1" strike="noStrike">
                <a:solidFill>
                  <a:srgbClr val="858585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7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28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CBD1-DE73-405F-BEA9-06AA83E419FF}" type="slidenum"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6"/>
          <p:cNvSpPr/>
          <p:nvPr/>
        </p:nvSpPr>
        <p:spPr>
          <a:xfrm>
            <a:off x="8148600" y="268200"/>
            <a:ext cx="719280" cy="1646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9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85858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2A8BD-4913-4197-881B-40DAE0B84B14}" type="datetime">
              <a:rPr b="1" lang="en-US" sz="1100" spc="-1" strike="noStrike">
                <a:solidFill>
                  <a:srgbClr val="858585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0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1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F2F70-A2F4-40E7-AD10-C028438A4F7B}" type="slidenum"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6"/>
          <p:cNvSpPr/>
          <p:nvPr/>
        </p:nvSpPr>
        <p:spPr>
          <a:xfrm>
            <a:off x="8148600" y="268200"/>
            <a:ext cx="719280" cy="1646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2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85858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A472E-CE86-4A27-B964-BC4C29D6F7EA}" type="datetime">
              <a:rPr b="1" lang="en-US" sz="1100" spc="-1" strike="noStrike">
                <a:solidFill>
                  <a:srgbClr val="858585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3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4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1170B-28EE-441F-8BB6-4051A883CFFF}" type="slidenum"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6"/>
          <p:cNvSpPr/>
          <p:nvPr/>
        </p:nvSpPr>
        <p:spPr>
          <a:xfrm>
            <a:off x="8148600" y="268200"/>
            <a:ext cx="719280" cy="1646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5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85858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EAB7B-38F8-498F-A41E-0AE0D3BE595E}" type="datetime">
              <a:rPr b="1" lang="en-US" sz="1100" spc="-1" strike="noStrike">
                <a:solidFill>
                  <a:srgbClr val="858585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6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7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51390-E024-4A5C-9E12-A5764C577229}" type="slidenum"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6"/>
          <p:cNvSpPr/>
          <p:nvPr/>
        </p:nvSpPr>
        <p:spPr>
          <a:xfrm>
            <a:off x="8148600" y="268200"/>
            <a:ext cx="719280" cy="567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dt" idx="38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85858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042D8-5A5A-4A5B-BA7B-9541B162D829}" type="datetime">
              <a:rPr b="1" lang="en-US" sz="1100" spc="-1" strike="noStrike">
                <a:solidFill>
                  <a:srgbClr val="858585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ftr" idx="39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sldNum" idx="40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7D7EF-A099-4E19-ADEE-04FCB716D7C2}" type="slidenum"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6"/>
          <p:cNvSpPr/>
          <p:nvPr/>
        </p:nvSpPr>
        <p:spPr>
          <a:xfrm>
            <a:off x="8148600" y="268200"/>
            <a:ext cx="719280" cy="567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dt" idx="41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85858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1A771-AA46-4E72-A2A1-3C3742CA683D}" type="datetime">
              <a:rPr b="1" lang="en-US" sz="1100" spc="-1" strike="noStrike">
                <a:solidFill>
                  <a:srgbClr val="858585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 type="ftr" idx="42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 type="sldNum" idx="43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82DCE-A21A-4655-9A0D-5C576302A41B}" type="slidenum"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6"/>
          <p:cNvSpPr/>
          <p:nvPr/>
        </p:nvSpPr>
        <p:spPr>
          <a:xfrm>
            <a:off x="4746600" y="268200"/>
            <a:ext cx="4114800" cy="567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dt" idx="44"/>
          </p:nvPr>
        </p:nvSpPr>
        <p:spPr>
          <a:xfrm>
            <a:off x="162000" y="612468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8585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715D4-98ED-4647-ABF0-6A8204BA2681}" type="datetime">
              <a:rPr b="1" lang="en-US" sz="1100" spc="-1" strike="noStrike">
                <a:solidFill>
                  <a:srgbClr val="858585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ftr" idx="45"/>
          </p:nvPr>
        </p:nvSpPr>
        <p:spPr>
          <a:xfrm>
            <a:off x="174240" y="6356520"/>
            <a:ext cx="386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 type="sldNum" idx="46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AEFE1-09B9-48D4-9BC8-81728D92ABA2}" type="slidenum"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6"/>
          <p:cNvSpPr/>
          <p:nvPr/>
        </p:nvSpPr>
        <p:spPr>
          <a:xfrm>
            <a:off x="7216920" y="268200"/>
            <a:ext cx="1639800" cy="36385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dt" idx="47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85858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C7159-1CCA-4F47-9FF6-9615B02C8429}" type="datetime">
              <a:rPr b="1" lang="en-US" sz="1100" spc="-1" strike="noStrike">
                <a:solidFill>
                  <a:srgbClr val="858585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ftr" idx="48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 type="sldNum" idx="49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4A44D-D184-4472-A5B6-B05A493FDA4E}" type="slidenum"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6"/>
          <p:cNvSpPr/>
          <p:nvPr/>
        </p:nvSpPr>
        <p:spPr>
          <a:xfrm>
            <a:off x="8136000" y="268200"/>
            <a:ext cx="720720" cy="36385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 type="dt" idx="50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85858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977B4-C9BF-4F7E-83F7-FF6E88164C33}" type="datetime">
              <a:rPr b="1" lang="en-US" sz="1100" spc="-1" strike="noStrike">
                <a:solidFill>
                  <a:srgbClr val="858585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 type="ftr" idx="51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 type="sldNum" idx="52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0B63-D2D2-452C-9557-3377AFD69FFE}" type="slidenum"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6"/>
          <p:cNvSpPr/>
          <p:nvPr/>
        </p:nvSpPr>
        <p:spPr>
          <a:xfrm>
            <a:off x="7211880" y="268200"/>
            <a:ext cx="1646280" cy="1646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 type="dt" idx="53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85858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D5D2D-AE94-470B-BCD3-B32C5F5D9BD8}" type="datetime">
              <a:rPr b="1" lang="en-US" sz="1100" spc="-1" strike="noStrike">
                <a:solidFill>
                  <a:srgbClr val="858585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 type="ftr" idx="54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 type="sldNum" idx="55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97763-4BD2-4264-8CC8-24C796939134}" type="slidenum"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3187800" y="268200"/>
            <a:ext cx="5668920" cy="39006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268200" y="268200"/>
            <a:ext cx="184320" cy="38862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276360" y="390600"/>
            <a:ext cx="550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50CC6-C4F0-4E1C-84D1-E1F47A27D28A}" type="datetime"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219480" y="6356520"/>
            <a:ext cx="4735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256240" y="635652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85858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6322-5CBC-47C1-9CDF-9CAD63A41023}" type="slidenum">
              <a:rPr b="1" lang="en-US" sz="1100" spc="-1" strike="noStrike">
                <a:solidFill>
                  <a:srgbClr val="858585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6"/>
          <p:cNvSpPr/>
          <p:nvPr/>
        </p:nvSpPr>
        <p:spPr>
          <a:xfrm>
            <a:off x="8148600" y="268200"/>
            <a:ext cx="719280" cy="567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 type="dt" idx="56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85858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8053C-4690-46CE-9508-4C9C4DF0FB71}" type="datetime">
              <a:rPr b="1" lang="en-US" sz="1100" spc="-1" strike="noStrike">
                <a:solidFill>
                  <a:srgbClr val="858585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 type="ftr" idx="57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 type="sldNum" idx="58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D6ED6-4ABC-4664-81DC-56A1FF80C2BB}" type="slidenum"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7211880" y="268200"/>
            <a:ext cx="1646280" cy="1646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7211520" y="6356520"/>
            <a:ext cx="175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85858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B89AA-62A8-4592-8A31-69476D54789B}" type="datetime">
              <a:rPr b="1" lang="en-US" sz="1100" spc="-1" strike="noStrike">
                <a:solidFill>
                  <a:srgbClr val="858585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76059-4DA9-434B-8B9C-3CF72ABA6053}" type="slidenum"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3187800" y="268200"/>
            <a:ext cx="5668920" cy="25606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268200" y="268200"/>
            <a:ext cx="184320" cy="38862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3276360" y="390600"/>
            <a:ext cx="5499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36690-5BF8-4B12-8DAD-31911FADB3C8}" type="datetime"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213000" y="6356520"/>
            <a:ext cx="4735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8265600" y="635652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85858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6F3D-04EF-4ACD-8345-A225A80A260B}" type="slidenum">
              <a:rPr b="1" lang="en-US" sz="1100" spc="-1" strike="noStrike">
                <a:solidFill>
                  <a:srgbClr val="858585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270000" y="268200"/>
            <a:ext cx="1646280" cy="1646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7211520" y="6356520"/>
            <a:ext cx="175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85858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5D275-779C-45E2-8799-544D5893B9D7}" type="datetime">
              <a:rPr b="1" lang="en-US" sz="1100" spc="-1" strike="noStrike">
                <a:solidFill>
                  <a:srgbClr val="858585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2178000" y="6356520"/>
            <a:ext cx="4927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331920" y="360360"/>
            <a:ext cx="50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714A3-F349-4188-BA6A-4266DCFFBC1E}" type="slidenum"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6"/>
          <p:cNvSpPr/>
          <p:nvPr/>
        </p:nvSpPr>
        <p:spPr>
          <a:xfrm>
            <a:off x="7759800" y="268200"/>
            <a:ext cx="1098360" cy="63500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5562720" y="6356520"/>
            <a:ext cx="1622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85858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CC10F-D714-4496-9406-52228E11C9B0}" type="datetime">
              <a:rPr b="1" lang="en-US" sz="1100" spc="-1" strike="noStrike">
                <a:solidFill>
                  <a:srgbClr val="858585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174240" y="635652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E5BF4-6112-4B3F-BC1E-80965FED6BD3}" type="slidenum"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6"/>
          <p:cNvSpPr/>
          <p:nvPr/>
        </p:nvSpPr>
        <p:spPr>
          <a:xfrm>
            <a:off x="270000" y="4773600"/>
            <a:ext cx="2971800" cy="18446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9"/>
          </p:nvPr>
        </p:nvSpPr>
        <p:spPr>
          <a:xfrm>
            <a:off x="351000" y="6105600"/>
            <a:ext cx="50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84AD9-EA18-4EF1-B838-4B1238675689}" type="slidenum"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6"/>
          <p:cNvSpPr/>
          <p:nvPr/>
        </p:nvSpPr>
        <p:spPr>
          <a:xfrm>
            <a:off x="8148600" y="268200"/>
            <a:ext cx="719280" cy="1646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0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85858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DCEBA-5C4F-44CC-88C5-50C520278FB9}" type="datetime">
              <a:rPr b="1" lang="en-US" sz="1100" spc="-1" strike="noStrike">
                <a:solidFill>
                  <a:srgbClr val="858585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1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2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5FA11-6D0E-4BCE-A074-5E162D7BD952}" type="slidenum"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6"/>
          <p:cNvSpPr/>
          <p:nvPr/>
        </p:nvSpPr>
        <p:spPr>
          <a:xfrm>
            <a:off x="8148600" y="268200"/>
            <a:ext cx="719280" cy="1646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3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85858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2CD4C-F79D-49DB-B711-ECBB0ADBC4C7}" type="datetime">
              <a:rPr b="1" lang="en-US" sz="1100" spc="-1" strike="noStrike">
                <a:solidFill>
                  <a:srgbClr val="858585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4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5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B53FA-26F1-4ACB-A787-27BD3A713692}" type="slidenum"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3200040" y="3979440"/>
            <a:ext cx="5459400" cy="104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00"/>
                </a:solidFill>
                <a:latin typeface="Century Gothic"/>
              </a:rPr>
              <a:t>Assessing Foreign Languages</a:t>
            </a:r>
            <a:endParaRPr b="0" lang="en-US" sz="22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 type="subTitle"/>
          </p:nvPr>
        </p:nvSpPr>
        <p:spPr>
          <a:xfrm>
            <a:off x="3200040" y="4946760"/>
            <a:ext cx="5459400" cy="62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Century Gothic"/>
              </a:rPr>
              <a:t>The National Standardized ACTFL Oral Proficiency Interview   or   </a:t>
            </a:r>
            <a:r>
              <a:rPr b="1" lang="en-US" sz="2200" spc="-1" strike="noStrike">
                <a:solidFill>
                  <a:srgbClr val="333333"/>
                </a:solidFill>
                <a:latin typeface="Century Gothic"/>
              </a:rPr>
              <a:t>O P I</a:t>
            </a:r>
            <a:endParaRPr b="0" lang="en-US" sz="22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48" name="Title 1"/>
          <p:cNvSpPr/>
          <p:nvPr/>
        </p:nvSpPr>
        <p:spPr>
          <a:xfrm>
            <a:off x="3276720" y="4610160"/>
            <a:ext cx="5459400" cy="10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9" name="Subtitle 2"/>
          <p:cNvSpPr/>
          <p:nvPr/>
        </p:nvSpPr>
        <p:spPr>
          <a:xfrm>
            <a:off x="-965160" y="1943280"/>
            <a:ext cx="5459400" cy="1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entury Gothic"/>
              </a:rPr>
              <a:t>Mireille Le Breton, Ph. D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entury Gothic"/>
              </a:rPr>
              <a:t>Nazareth College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entury Gothic"/>
              </a:rPr>
              <a:t>NYSAFLT CONVENTION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entury Gothic"/>
              </a:rPr>
              <a:t>Saturday, March 8th, 2014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0" name="Slide Number Placeholder 1"/>
          <p:cNvSpPr/>
          <p:nvPr/>
        </p:nvSpPr>
        <p:spPr>
          <a:xfrm>
            <a:off x="8256600" y="635652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22FA5-80FE-4FD2-B223-D0DC39E3AEDF}" type="slidenum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Century Gothic"/>
              </a:rPr>
              <a:t>     </a:t>
            </a:r>
            <a:r>
              <a:rPr b="0" lang="en-US" sz="1600" spc="-1" strike="noStrike">
                <a:solidFill>
                  <a:srgbClr val="333333"/>
                </a:solidFill>
                <a:latin typeface="Century Gothic"/>
              </a:rPr>
              <a:t>5 / </a:t>
            </a:r>
            <a:r>
              <a:rPr b="0" lang="en-US" sz="1600" spc="-1" strike="noStrike">
                <a:solidFill>
                  <a:srgbClr val="333333"/>
                </a:solidFill>
                <a:latin typeface="Century Gothic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Century Gothic"/>
              </a:rPr>
              <a:t>Official ACTFL OPI ratings are recommended for the      </a:t>
            </a:r>
            <a:r>
              <a:rPr b="0" lang="en-US" sz="1600" spc="-1" strike="noStrike">
                <a:solidFill>
                  <a:srgbClr val="333333"/>
                </a:solidFill>
                <a:latin typeface="Century Gothic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Century Gothic"/>
              </a:rPr>
              <a:t>awarding of college credit by the American Council</a:t>
            </a:r>
            <a:r>
              <a:rPr b="0" lang="en-US" sz="1600" spc="-1" strike="noStrike">
                <a:solidFill>
                  <a:srgbClr val="333333"/>
                </a:solidFill>
                <a:latin typeface="Century Gothic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Century Gothic"/>
              </a:rPr>
              <a:t>on Education (ACE) Credit Recommendation Service .</a:t>
            </a:r>
            <a:endParaRPr b="0" lang="en-US" sz="1600" spc="-1" strike="noStrike">
              <a:solidFill>
                <a:srgbClr val="333333"/>
              </a:solidFill>
              <a:latin typeface="Century Gothic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Century Gothic"/>
              </a:rPr>
              <a:t>     </a:t>
            </a:r>
            <a:r>
              <a:rPr b="0" lang="en-US" sz="1600" spc="-1" strike="noStrike">
                <a:solidFill>
                  <a:srgbClr val="333333"/>
                </a:solidFill>
                <a:latin typeface="Century Gothic"/>
              </a:rPr>
              <a:t>6/     </a:t>
            </a:r>
            <a:r>
              <a:rPr b="0" lang="en-US" sz="1600" spc="-1" strike="noStrike">
                <a:solidFill>
                  <a:srgbClr val="333333"/>
                </a:solidFill>
                <a:latin typeface="Century Gothic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Century Gothic"/>
              </a:rPr>
              <a:t>Recruitment effort for the department and the school</a:t>
            </a:r>
            <a:r>
              <a:rPr b="0" lang="en-US" sz="1600" spc="-1" strike="noStrike">
                <a:solidFill>
                  <a:srgbClr val="333333"/>
                </a:solidFill>
                <a:latin typeface="Century Gothic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Century Gothic"/>
              </a:rPr>
              <a:t>at large.</a:t>
            </a:r>
            <a:endParaRPr b="0" lang="en-US" sz="1600" spc="-1" strike="noStrike">
              <a:solidFill>
                <a:srgbClr val="333333"/>
              </a:solidFill>
              <a:latin typeface="Century Gothic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Century Gothic"/>
              </a:rPr>
              <a:t>    </a:t>
            </a:r>
            <a:r>
              <a:rPr b="0" lang="en-US" sz="1600" spc="-1" strike="noStrike">
                <a:solidFill>
                  <a:srgbClr val="333333"/>
                </a:solidFill>
                <a:latin typeface="Century Gothic"/>
              </a:rPr>
              <a:t>7/        Marketing effort.</a:t>
            </a:r>
            <a:endParaRPr b="0" lang="en-US" sz="1600" spc="-1" strike="noStrike">
              <a:solidFill>
                <a:srgbClr val="333333"/>
              </a:solidFill>
              <a:latin typeface="Century Gothic"/>
            </a:endParaRPr>
          </a:p>
          <a:p>
            <a:pPr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Why is the OPI important for language institutions?   2/2 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78" name="Slide Number Placeholder 1"/>
          <p:cNvSpPr/>
          <p:nvPr/>
        </p:nvSpPr>
        <p:spPr>
          <a:xfrm>
            <a:off x="8256600" y="360360"/>
            <a:ext cx="506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B07BE-3E7E-4755-8704-FEF16EC33853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Use of the OPI in the Business World &amp; the Administration.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e OPI and OPI ratings are widely used in the business world and in government for purposes of hiring and promotion in multi-lingual positions.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81" name="Slide Number Placeholder 1"/>
          <p:cNvSpPr/>
          <p:nvPr/>
        </p:nvSpPr>
        <p:spPr>
          <a:xfrm>
            <a:off x="8256600" y="360360"/>
            <a:ext cx="506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6369E-EF34-4880-B6EE-A9D9439257C0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Why is the OPI important for the student?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Evaluation of progress in the Common Core : OPIs can serve as Artifacts for students’portfolios to document their progress.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tudents may not know that some companies or governmental offices will require them to test at a certain level in the OPI once they are on the job market, to get to certain jobs.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Most highly selective Graduate Schools in Foreign Languages require the student to take the OPI.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84" name="Slide Number Placeholder 1"/>
          <p:cNvSpPr/>
          <p:nvPr/>
        </p:nvSpPr>
        <p:spPr>
          <a:xfrm>
            <a:off x="8256600" y="360360"/>
            <a:ext cx="506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29A50-CA8A-4C74-A32F-49ED1CA4215A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204"/>
          <p:cNvSpPr/>
          <p:nvPr/>
        </p:nvSpPr>
        <p:spPr>
          <a:xfrm>
            <a:off x="-1568520" y="-214200"/>
            <a:ext cx="8305920" cy="5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Black"/>
              </a:rPr>
              <a:t>Oral Proficiency Levels in the Work World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6" name="Footer Placeholder 1"/>
          <p:cNvSpPr/>
          <p:nvPr/>
        </p:nvSpPr>
        <p:spPr>
          <a:xfrm>
            <a:off x="2855880" y="10466280"/>
            <a:ext cx="548640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View the ACTFL Proficiency Guidelines 2012 at </a:t>
            </a:r>
            <a:r>
              <a:rPr b="1" lang="en-US" sz="900" spc="-1" strike="noStrike" u="sng">
                <a:solidFill>
                  <a:srgbClr val="0000ff"/>
                </a:solidFill>
                <a:uFillTx/>
                <a:latin typeface="Arial"/>
              </a:rPr>
              <a:t>http://actflproficiencyguidelines2012.org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</a:rPr>
              <a:t>/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887" name="Group 203" descr=""/>
          <p:cNvPicPr/>
          <p:nvPr/>
        </p:nvPicPr>
        <p:blipFill>
          <a:blip r:embed="rId1"/>
          <a:stretch/>
        </p:blipFill>
        <p:spPr>
          <a:xfrm>
            <a:off x="60480" y="487440"/>
            <a:ext cx="9010440" cy="9607320"/>
          </a:xfrm>
          <a:prstGeom prst="rect">
            <a:avLst/>
          </a:prstGeom>
          <a:ln w="0">
            <a:noFill/>
          </a:ln>
        </p:spPr>
      </p:pic>
      <p:sp>
        <p:nvSpPr>
          <p:cNvPr id="888" name="Rectangle 2"/>
          <p:cNvSpPr/>
          <p:nvPr/>
        </p:nvSpPr>
        <p:spPr>
          <a:xfrm>
            <a:off x="5273280" y="-44280"/>
            <a:ext cx="366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(</a:t>
            </a:r>
            <a:r>
              <a:rPr b="0" lang="en-US" sz="1800" spc="-1" strike="noStrike">
                <a:solidFill>
                  <a:srgbClr val="ff7070"/>
                </a:solidFill>
                <a:latin typeface="Century Gothic"/>
              </a:rPr>
              <a:t>document #3, p. 12 </a:t>
            </a:r>
            <a:r>
              <a:rPr b="0" lang="en-US" sz="900" spc="-1" strike="noStrike">
                <a:solidFill>
                  <a:srgbClr val="ff7070"/>
                </a:solidFill>
                <a:latin typeface="Century Gothic"/>
              </a:rPr>
              <a:t>informational handout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9" name="Slide Number Placeholder 3"/>
          <p:cNvSpPr/>
          <p:nvPr/>
        </p:nvSpPr>
        <p:spPr>
          <a:xfrm>
            <a:off x="8256600" y="635652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56B3-7C27-4612-9637-5EC126378513}" type="slidenum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How long does it take to become proficient?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e following ACTFL Oral Proficiency Interview (OPI) Ratings represent levels of expected performance for language learners who complete full-time intensive and/or immersion, proficiency-based language training under the supervision of an instructor and with 1-4 students per class.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entury Gothic"/>
              </a:rPr>
              <a:t>Source: http://www.languagetesting.com/how-long-does-it-take</a:t>
            </a:r>
            <a:endParaRPr b="0" lang="en-US" sz="12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92" name="Slide Number Placeholder 1"/>
          <p:cNvSpPr/>
          <p:nvPr/>
        </p:nvSpPr>
        <p:spPr>
          <a:xfrm>
            <a:off x="8256600" y="360360"/>
            <a:ext cx="506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17583-4F1C-454A-976A-744A10120871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94" name=""/>
          <p:cNvSpPr txBox="1"/>
          <p:nvPr/>
        </p:nvSpPr>
        <p:spPr>
          <a:xfrm>
            <a:off x="456840" y="2209320"/>
            <a:ext cx="847404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entury Gothic"/>
              </a:rPr>
              <a:t>Group I Languages: </a:t>
            </a: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Including </a:t>
            </a:r>
            <a:r>
              <a:rPr b="0" i="1" lang="en-US" sz="2000" spc="-1" strike="noStrike">
                <a:solidFill>
                  <a:srgbClr val="333333"/>
                </a:solidFill>
                <a:latin typeface="Century Gothic"/>
              </a:rPr>
              <a:t>Afrikaans, Danish, Dutch, French, Haitian Creole, Italian, Norwegian, Portuguese, Romanian, Spanish, Swahili, Swedish…</a:t>
            </a: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	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1400" indent="-2214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Century Gothic"/>
              </a:rPr>
              <a:t>Length of Training</a:t>
            </a:r>
            <a:r>
              <a:rPr b="0" lang="en-US" sz="1600" spc="-1" strike="noStrike">
                <a:solidFill>
                  <a:srgbClr val="333333"/>
                </a:solidFill>
                <a:latin typeface="Century Gothic"/>
              </a:rPr>
              <a:t>       </a:t>
            </a:r>
            <a:r>
              <a:rPr b="1" lang="en-US" sz="1600" spc="-1" strike="noStrike">
                <a:solidFill>
                  <a:srgbClr val="333333"/>
                </a:solidFill>
                <a:latin typeface="Century Gothic"/>
              </a:rPr>
              <a:t>Minimal Aptitude</a:t>
            </a:r>
            <a:r>
              <a:rPr b="0" lang="en-US" sz="1600" spc="-1" strike="noStrike">
                <a:solidFill>
                  <a:srgbClr val="333333"/>
                </a:solidFill>
                <a:latin typeface="Century Gothic"/>
              </a:rPr>
              <a:t>     </a:t>
            </a:r>
            <a:r>
              <a:rPr b="1" lang="en-US" sz="1600" spc="-1" strike="noStrike">
                <a:solidFill>
                  <a:srgbClr val="333333"/>
                </a:solidFill>
                <a:latin typeface="Century Gothic"/>
              </a:rPr>
              <a:t>Average Aptitude</a:t>
            </a:r>
            <a:r>
              <a:rPr b="0" lang="en-US" sz="1600" spc="-1" strike="noStrike">
                <a:solidFill>
                  <a:srgbClr val="333333"/>
                </a:solidFill>
                <a:latin typeface="Century Gothic"/>
              </a:rPr>
              <a:t>	</a:t>
            </a:r>
            <a:r>
              <a:rPr b="1" lang="en-US" sz="1600" spc="-1" strike="noStrike">
                <a:solidFill>
                  <a:srgbClr val="333333"/>
                </a:solidFill>
                <a:latin typeface="Century Gothic"/>
              </a:rPr>
              <a:t>Superior Aptitude</a:t>
            </a:r>
            <a:r>
              <a:rPr b="0" lang="en-US" sz="1600" spc="-1" strike="noStrike">
                <a:solidFill>
                  <a:srgbClr val="333333"/>
                </a:solidFill>
                <a:latin typeface="Century Gothic"/>
              </a:rPr>
              <a:t>	</a:t>
            </a:r>
            <a:endParaRPr b="0" lang="en-US" sz="1600" spc="-1" strike="noStrike">
              <a:solidFill>
                <a:srgbClr val="333333"/>
              </a:solidFill>
              <a:latin typeface="Century Gothic"/>
            </a:endParaRPr>
          </a:p>
          <a:p>
            <a:pPr marL="221400" indent="-2214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Century Gothic"/>
              </a:rPr>
              <a:t>8 weeks (240 hours)    Intermediate Low     Intermediate Mid</a:t>
            </a:r>
            <a:r>
              <a:rPr b="0" lang="en-US" sz="1600" spc="-1" strike="noStrike">
                <a:solidFill>
                  <a:srgbClr val="333333"/>
                </a:solidFill>
                <a:latin typeface="Century Gothic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Century Gothic"/>
              </a:rPr>
              <a:t>Intermediate Mid</a:t>
            </a:r>
            <a:r>
              <a:rPr b="0" lang="en-US" sz="1600" spc="-1" strike="noStrike">
                <a:solidFill>
                  <a:srgbClr val="333333"/>
                </a:solidFill>
                <a:latin typeface="Century Gothic"/>
              </a:rPr>
              <a:t>	</a:t>
            </a:r>
            <a:endParaRPr b="0" lang="en-US" sz="1600" spc="-1" strike="noStrike">
              <a:solidFill>
                <a:srgbClr val="333333"/>
              </a:solidFill>
              <a:latin typeface="Century Gothic"/>
            </a:endParaRPr>
          </a:p>
          <a:p>
            <a:pPr marL="221400" indent="-2214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Century Gothic"/>
              </a:rPr>
              <a:t>16 weeks (480 hours)   Intermediate High     Advanced Low</a:t>
            </a:r>
            <a:r>
              <a:rPr b="0" lang="en-US" sz="1600" spc="-1" strike="noStrike">
                <a:solidFill>
                  <a:srgbClr val="333333"/>
                </a:solidFill>
                <a:latin typeface="Century Gothic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Century Gothic"/>
              </a:rPr>
              <a:t>Advanced Mid</a:t>
            </a:r>
            <a:r>
              <a:rPr b="0" lang="en-US" sz="1600" spc="-1" strike="noStrike">
                <a:solidFill>
                  <a:srgbClr val="333333"/>
                </a:solidFill>
                <a:latin typeface="Century Gothic"/>
              </a:rPr>
              <a:t>	</a:t>
            </a:r>
            <a:endParaRPr b="0" lang="en-US" sz="1600" spc="-1" strike="noStrike">
              <a:solidFill>
                <a:srgbClr val="333333"/>
              </a:solidFill>
              <a:latin typeface="Century Gothic"/>
            </a:endParaRPr>
          </a:p>
          <a:p>
            <a:pPr marL="221400" indent="-2214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Century Gothic"/>
              </a:rPr>
              <a:t>24 weeks (720 hours)   Advanced Mid           Advanced High</a:t>
            </a:r>
            <a:r>
              <a:rPr b="0" lang="en-US" sz="1600" spc="-1" strike="noStrike">
                <a:solidFill>
                  <a:srgbClr val="333333"/>
                </a:solidFill>
                <a:latin typeface="Century Gothic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Century Gothic"/>
              </a:rPr>
              <a:t> Superior</a:t>
            </a: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	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1400" indent="-2214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entury Gothic"/>
              </a:rPr>
              <a:t>Source: http://www.languagetesting.com/how-long-does-it-take</a:t>
            </a:r>
            <a:endParaRPr b="0" lang="en-US" sz="1200" spc="-1" strike="noStrike">
              <a:solidFill>
                <a:srgbClr val="333333"/>
              </a:solidFill>
              <a:latin typeface="Century Gothic"/>
            </a:endParaRPr>
          </a:p>
          <a:p>
            <a:pPr marL="221400" indent="-2214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95" name="Slide Number Placeholder 1"/>
          <p:cNvSpPr/>
          <p:nvPr/>
        </p:nvSpPr>
        <p:spPr>
          <a:xfrm>
            <a:off x="8256600" y="360360"/>
            <a:ext cx="506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B7B5F-1138-4DC1-A150-F39FE8C40140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97" name=""/>
          <p:cNvSpPr txBox="1"/>
          <p:nvPr/>
        </p:nvSpPr>
        <p:spPr>
          <a:xfrm>
            <a:off x="0" y="2209320"/>
            <a:ext cx="1028232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entury Gothic"/>
              </a:rPr>
              <a:t>Group IV Languages:</a:t>
            </a: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 Including </a:t>
            </a:r>
            <a:r>
              <a:rPr b="0" i="1" lang="en-US" sz="2000" spc="-1" strike="noStrike">
                <a:solidFill>
                  <a:srgbClr val="333333"/>
                </a:solidFill>
                <a:latin typeface="Century Gothic"/>
              </a:rPr>
              <a:t>Arabic, Chinese, Japanese, Korean…</a:t>
            </a: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	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33"/>
                </a:solidFill>
                <a:latin typeface="Century Gothic"/>
              </a:rPr>
              <a:t>Length of Training</a:t>
            </a:r>
            <a:r>
              <a:rPr b="0" lang="en-US" sz="1700" spc="-1" strike="noStrike">
                <a:solidFill>
                  <a:srgbClr val="333333"/>
                </a:solidFill>
                <a:latin typeface="Century Gothic"/>
              </a:rPr>
              <a:t>       </a:t>
            </a:r>
            <a:r>
              <a:rPr b="1" lang="en-US" sz="1700" spc="-1" strike="noStrike">
                <a:solidFill>
                  <a:srgbClr val="333333"/>
                </a:solidFill>
                <a:latin typeface="Century Gothic"/>
              </a:rPr>
              <a:t>Minimal Aptitude</a:t>
            </a:r>
            <a:r>
              <a:rPr b="0" lang="en-US" sz="1700" spc="-1" strike="noStrike">
                <a:solidFill>
                  <a:srgbClr val="333333"/>
                </a:solidFill>
                <a:latin typeface="Century Gothic"/>
              </a:rPr>
              <a:t>   </a:t>
            </a:r>
            <a:r>
              <a:rPr b="1" lang="en-US" sz="1700" spc="-1" strike="noStrike">
                <a:solidFill>
                  <a:srgbClr val="333333"/>
                </a:solidFill>
                <a:latin typeface="Century Gothic"/>
              </a:rPr>
              <a:t>Average Aptitude</a:t>
            </a:r>
            <a:r>
              <a:rPr b="0" lang="en-US" sz="1700" spc="-1" strike="noStrike">
                <a:solidFill>
                  <a:srgbClr val="333333"/>
                </a:solidFill>
                <a:latin typeface="Century Gothic"/>
              </a:rPr>
              <a:t>     </a:t>
            </a:r>
            <a:r>
              <a:rPr b="1" lang="en-US" sz="1700" spc="-1" strike="noStrike">
                <a:solidFill>
                  <a:srgbClr val="333333"/>
                </a:solidFill>
                <a:latin typeface="Century Gothic"/>
              </a:rPr>
              <a:t>Superior Aptitude</a:t>
            </a:r>
            <a:r>
              <a:rPr b="0" lang="en-US" sz="1700" spc="-1" strike="noStrike">
                <a:solidFill>
                  <a:srgbClr val="333333"/>
                </a:solidFill>
                <a:latin typeface="Century Gothic"/>
              </a:rPr>
              <a:t>	</a:t>
            </a:r>
            <a:endParaRPr b="0" lang="en-US" sz="17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33"/>
                </a:solidFill>
                <a:latin typeface="Century Gothic"/>
              </a:rPr>
              <a:t>16 weeks (480 hours)     Novice High         Intermediate Low     Intermediate Low/Mid</a:t>
            </a:r>
            <a:r>
              <a:rPr b="0" lang="en-US" sz="1700" spc="-1" strike="noStrike">
                <a:solidFill>
                  <a:srgbClr val="333333"/>
                </a:solidFill>
                <a:latin typeface="Century Gothic"/>
              </a:rPr>
              <a:t>	</a:t>
            </a:r>
            <a:endParaRPr b="0" lang="en-US" sz="17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33"/>
                </a:solidFill>
                <a:latin typeface="Century Gothic"/>
              </a:rPr>
              <a:t>24 weeks (720 hours)   Intermediate L/M   Intermediate M/H      Intermediate High</a:t>
            </a:r>
            <a:r>
              <a:rPr b="0" lang="en-US" sz="1700" spc="-1" strike="noStrike">
                <a:solidFill>
                  <a:srgbClr val="333333"/>
                </a:solidFill>
                <a:latin typeface="Century Gothic"/>
              </a:rPr>
              <a:t>	</a:t>
            </a:r>
            <a:endParaRPr b="0" lang="en-US" sz="17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33"/>
                </a:solidFill>
                <a:latin typeface="Century Gothic"/>
              </a:rPr>
              <a:t>44 weeks(1320 hours)  Intermediate High</a:t>
            </a:r>
            <a:r>
              <a:rPr b="0" lang="en-US" sz="1700" spc="-1" strike="noStrike">
                <a:solidFill>
                  <a:srgbClr val="333333"/>
                </a:solidFill>
                <a:latin typeface="Century Gothic"/>
              </a:rPr>
              <a:t>	</a:t>
            </a:r>
            <a:r>
              <a:rPr b="0" lang="en-US" sz="1700" spc="-1" strike="noStrike">
                <a:solidFill>
                  <a:srgbClr val="333333"/>
                </a:solidFill>
                <a:latin typeface="Century Gothic"/>
              </a:rPr>
              <a:t>Advanced Low</a:t>
            </a:r>
            <a:r>
              <a:rPr b="0" lang="en-US" sz="1700" spc="-1" strike="noStrike">
                <a:solidFill>
                  <a:srgbClr val="333333"/>
                </a:solidFill>
                <a:latin typeface="Century Gothic"/>
              </a:rPr>
              <a:t>	</a:t>
            </a:r>
            <a:r>
              <a:rPr b="0" lang="en-US" sz="1700" spc="-1" strike="noStrike">
                <a:solidFill>
                  <a:srgbClr val="333333"/>
                </a:solidFill>
                <a:latin typeface="Century Gothic"/>
              </a:rPr>
              <a:t>    Advanced Mid/High</a:t>
            </a:r>
            <a:r>
              <a:rPr b="0" lang="en-US" sz="1700" spc="-1" strike="noStrike">
                <a:solidFill>
                  <a:srgbClr val="333333"/>
                </a:solidFill>
                <a:latin typeface="Century Gothic"/>
              </a:rPr>
              <a:t>	</a:t>
            </a:r>
            <a:endParaRPr b="0" lang="en-US" sz="17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33"/>
                </a:solidFill>
                <a:latin typeface="Century Gothic"/>
              </a:rPr>
              <a:t>80-92 weeks (2400-2760 h)Advanced H          Superior</a:t>
            </a:r>
            <a:r>
              <a:rPr b="0" lang="en-US" sz="1700" spc="-1" strike="noStrike">
                <a:solidFill>
                  <a:srgbClr val="333333"/>
                </a:solidFill>
                <a:latin typeface="Century Gothic"/>
              </a:rPr>
              <a:t>	</a:t>
            </a:r>
            <a:r>
              <a:rPr b="0" lang="en-US" sz="1700" spc="-1" strike="noStrike">
                <a:solidFill>
                  <a:srgbClr val="333333"/>
                </a:solidFill>
                <a:latin typeface="Century Gothic"/>
              </a:rPr>
              <a:t>           Superior</a:t>
            </a:r>
            <a:r>
              <a:rPr b="0" lang="en-US" sz="1700" spc="-1" strike="noStrike">
                <a:solidFill>
                  <a:srgbClr val="333333"/>
                </a:solidFill>
                <a:latin typeface="Century Gothic"/>
              </a:rPr>
              <a:t>	</a:t>
            </a:r>
            <a:endParaRPr b="0" lang="en-US" sz="17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entury Gothic"/>
              </a:rPr>
              <a:t>Source: http://www.languagetesting.com/how-long-does-it-take</a:t>
            </a:r>
            <a:endParaRPr b="0" lang="en-US" sz="12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98" name="Slide Number Placeholder 1"/>
          <p:cNvSpPr/>
          <p:nvPr/>
        </p:nvSpPr>
        <p:spPr>
          <a:xfrm>
            <a:off x="8256600" y="360360"/>
            <a:ext cx="506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E868A-CE10-48B8-8FCF-9F9C8D0DC716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What is the format of an interview?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00" name=""/>
          <p:cNvSpPr txBox="1"/>
          <p:nvPr/>
        </p:nvSpPr>
        <p:spPr>
          <a:xfrm>
            <a:off x="457200" y="2209320"/>
            <a:ext cx="681192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An oral test, by phone, 20-30minutes where you assess the proficiency of a student.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Establishing a floor and a ceiling.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Get a ratable sample.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Double rating by another ACTFL certified tester.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amples at all the levels of proficiency, in English: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  </a:t>
            </a:r>
            <a:r>
              <a:rPr b="0" lang="en-US" sz="1300" spc="-1" strike="noStrike">
                <a:solidFill>
                  <a:srgbClr val="333333"/>
                </a:solidFill>
                <a:latin typeface="Century Gothic"/>
              </a:rPr>
              <a:t> </a:t>
            </a:r>
            <a:r>
              <a:rPr b="0" lang="en-US" sz="1300" spc="-1" strike="noStrike">
                <a:solidFill>
                  <a:srgbClr val="333333"/>
                </a:solidFill>
                <a:latin typeface="Century Gothic"/>
              </a:rPr>
              <a:t>&lt;http://actflproficiencyguidelines2012.org/speaking#Novice&gt;</a:t>
            </a:r>
            <a:endParaRPr b="0" lang="en-US" sz="13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01" name="Slide Number Placeholder 1"/>
          <p:cNvSpPr/>
          <p:nvPr/>
        </p:nvSpPr>
        <p:spPr>
          <a:xfrm>
            <a:off x="8256600" y="360360"/>
            <a:ext cx="506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92200-E422-4AA4-AEC3-B5A6253B6D21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How to become an OPI Certified Tester?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ACTFL convention </a:t>
            </a:r>
            <a:r>
              <a:rPr b="0" lang="en-US" sz="2000" spc="-1" strike="noStrike">
                <a:solidFill>
                  <a:srgbClr val="333333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 4-day training workshop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28 hours of professional development (phase 1)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Rating phase (phase 2)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Interview phase (phase 3)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ake the OPI 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You test not only in your class or Department, but nationally and get paid for it!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04" name="Slide Number Placeholder 1"/>
          <p:cNvSpPr/>
          <p:nvPr/>
        </p:nvSpPr>
        <p:spPr>
          <a:xfrm>
            <a:off x="8256600" y="360360"/>
            <a:ext cx="506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44264-E33B-4845-B49B-1A7744F81AA7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Any Questions?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06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Bibliography: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Century Gothic"/>
              </a:rPr>
              <a:t>ACTFL OPI Tester Certification Information © 2012 ACTFL, Inc.</a:t>
            </a:r>
            <a:endParaRPr b="0" lang="en-US" sz="14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Century Gothic"/>
              </a:rPr>
              <a:t>ACTFL Proficiency Guidelines 2012:</a:t>
            </a:r>
            <a:endParaRPr b="0" lang="en-US" sz="14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Century Gothic"/>
              </a:rPr>
              <a:t>&lt;http://actflproficiencyguidelines2012.org&gt;</a:t>
            </a:r>
            <a:endParaRPr b="0" lang="en-US" sz="14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Century Gothic"/>
              </a:rPr>
              <a:t>ACTFL Language Proficiency Tester Training Site: “About the ACTFL Proficiency Interview (OPI)” © 2012 ACTFL, Inc.</a:t>
            </a:r>
            <a:endParaRPr b="0" lang="en-US" sz="14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Century Gothic"/>
              </a:rPr>
              <a:t>OPI Tester Certification Packet (Assessment) © 2012 ACTFL, Inc.</a:t>
            </a:r>
            <a:endParaRPr b="0" lang="en-US" sz="14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Century Gothic"/>
              </a:rPr>
              <a:t>LTI: &lt;http://www.languagetesting.com/oral-proficiency-interview-opi&gt;</a:t>
            </a:r>
            <a:endParaRPr b="0" lang="en-US" sz="14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07" name="TextBox 1"/>
          <p:cNvSpPr/>
          <p:nvPr/>
        </p:nvSpPr>
        <p:spPr>
          <a:xfrm>
            <a:off x="3835440" y="5626080"/>
            <a:ext cx="530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Questions? Please email: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mlebret5@naz.edu or call: (650) 644-8600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8" name="Slide Number Placeholder 1"/>
          <p:cNvSpPr/>
          <p:nvPr/>
        </p:nvSpPr>
        <p:spPr>
          <a:xfrm>
            <a:off x="8256600" y="360360"/>
            <a:ext cx="506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21D86-18D7-4079-BCE1-FFFD0C291FFB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Objectives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Introduce the Oral Proficiency Interview (OPI)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Highlight the importance of the use of OPI testing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601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For our Departments and Institutions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601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For our pupils and students, and in the work world</a:t>
            </a: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53" name="Slide Number Placeholder 1"/>
          <p:cNvSpPr/>
          <p:nvPr/>
        </p:nvSpPr>
        <p:spPr>
          <a:xfrm>
            <a:off x="8256600" y="360360"/>
            <a:ext cx="506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13283-3D44-44B6-96FD-627D5CFEC1FF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38556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Outline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457200" y="1346040"/>
            <a:ext cx="6508800" cy="47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33"/>
                </a:solidFill>
                <a:latin typeface="Century Gothic"/>
              </a:rPr>
              <a:t>What is the OPI?</a:t>
            </a:r>
            <a:endParaRPr b="0" lang="en-US" sz="19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33"/>
                </a:solidFill>
                <a:latin typeface="Century Gothic"/>
              </a:rPr>
              <a:t>Assessment types: achievement vs proficiency tests</a:t>
            </a:r>
            <a:endParaRPr b="0" lang="en-US" sz="19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33"/>
                </a:solidFill>
                <a:latin typeface="Century Gothic"/>
              </a:rPr>
              <a:t>Details of testing for proficiency along the ACTFL guidelines &amp; the rating scale</a:t>
            </a:r>
            <a:endParaRPr b="0" lang="en-US" sz="19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33"/>
                </a:solidFill>
                <a:latin typeface="Century Gothic"/>
              </a:rPr>
              <a:t>The use of the ACTFL OPI for our Institution, for our students: OPI Use in Academia, the business world and in government communities</a:t>
            </a:r>
            <a:endParaRPr b="0" lang="en-US" sz="19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33"/>
                </a:solidFill>
                <a:latin typeface="Century Gothic"/>
              </a:rPr>
              <a:t>Data: Oral Proficiency levels in the work world and length to become proficient in a FL language</a:t>
            </a:r>
            <a:endParaRPr b="0" lang="en-US" sz="19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33"/>
                </a:solidFill>
                <a:latin typeface="Century Gothic"/>
              </a:rPr>
              <a:t>The format of interview itself and how to become a certified tester?</a:t>
            </a:r>
            <a:endParaRPr b="0" lang="en-US" sz="19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56" name="Slide Number Placeholder 1"/>
          <p:cNvSpPr/>
          <p:nvPr/>
        </p:nvSpPr>
        <p:spPr>
          <a:xfrm>
            <a:off x="8256600" y="360360"/>
            <a:ext cx="506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09C08-59E2-4258-B617-3712462D142E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What is the OPI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457200" y="2209680"/>
            <a:ext cx="65088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33"/>
                </a:solidFill>
                <a:latin typeface="Century Gothic"/>
              </a:rPr>
              <a:t>The OPI </a:t>
            </a:r>
            <a:r>
              <a:rPr b="0" i="1" lang="en-US" sz="1700" spc="-1" strike="noStrike">
                <a:solidFill>
                  <a:srgbClr val="333333"/>
                </a:solidFill>
                <a:latin typeface="Century Gothic"/>
              </a:rPr>
              <a:t>standardized</a:t>
            </a:r>
            <a:r>
              <a:rPr b="0" lang="en-US" sz="1700" spc="-1" strike="noStrike">
                <a:solidFill>
                  <a:srgbClr val="333333"/>
                </a:solidFill>
                <a:latin typeface="Century Gothic"/>
              </a:rPr>
              <a:t> </a:t>
            </a:r>
            <a:r>
              <a:rPr b="1" lang="en-US" sz="1700" spc="-1" strike="noStrike">
                <a:solidFill>
                  <a:srgbClr val="333333"/>
                </a:solidFill>
                <a:latin typeface="Century Gothic"/>
              </a:rPr>
              <a:t>oral proficiency test</a:t>
            </a:r>
            <a:r>
              <a:rPr b="0" lang="en-US" sz="1700" spc="-1" strike="noStrike">
                <a:solidFill>
                  <a:srgbClr val="333333"/>
                </a:solidFill>
                <a:latin typeface="Century Gothic"/>
              </a:rPr>
              <a:t> follows the national guidelines and Scale defined by the ACTFL.</a:t>
            </a:r>
            <a:endParaRPr b="0" lang="en-US" sz="1700" spc="-1" strike="noStrike">
              <a:solidFill>
                <a:srgbClr val="333333"/>
              </a:solidFill>
              <a:latin typeface="Century Gothic"/>
            </a:endParaRPr>
          </a:p>
          <a:p>
            <a:pPr lvl="3" marL="228600" indent="-22860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33"/>
                </a:solidFill>
                <a:latin typeface="Century Gothic"/>
              </a:rPr>
              <a:t>What is language proficiency? </a:t>
            </a:r>
            <a:endParaRPr b="0" lang="en-US" sz="17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333333"/>
                </a:solidFill>
                <a:latin typeface="Century Gothic"/>
              </a:rPr>
              <a:t>Language proficiency</a:t>
            </a:r>
            <a:r>
              <a:rPr b="0" lang="en-US" sz="1700" spc="-1" strike="noStrike">
                <a:solidFill>
                  <a:srgbClr val="333333"/>
                </a:solidFill>
                <a:latin typeface="Century Gothic"/>
              </a:rPr>
              <a:t> refers to one’s ability to use language for real world purposes to accomplish real world linguistic tasks, across a wide range of </a:t>
            </a:r>
            <a:r>
              <a:rPr b="1" lang="en-US" sz="1700" spc="-1" strike="noStrike">
                <a:solidFill>
                  <a:srgbClr val="333333"/>
                </a:solidFill>
                <a:latin typeface="Century Gothic"/>
              </a:rPr>
              <a:t>topics</a:t>
            </a:r>
            <a:r>
              <a:rPr b="0" lang="en-US" sz="1700" spc="-1" strike="noStrike">
                <a:solidFill>
                  <a:srgbClr val="333333"/>
                </a:solidFill>
                <a:latin typeface="Century Gothic"/>
              </a:rPr>
              <a:t> and </a:t>
            </a:r>
            <a:r>
              <a:rPr b="1" lang="en-US" sz="1700" spc="-1" strike="noStrike">
                <a:solidFill>
                  <a:srgbClr val="333333"/>
                </a:solidFill>
                <a:latin typeface="Century Gothic"/>
              </a:rPr>
              <a:t>settings</a:t>
            </a:r>
            <a:r>
              <a:rPr b="0" lang="en-US" sz="1700" spc="-1" strike="noStrike">
                <a:solidFill>
                  <a:srgbClr val="333333"/>
                </a:solidFill>
                <a:latin typeface="Century Gothic"/>
              </a:rPr>
              <a:t>. ACTFL Proficiency Tests reflect and measure these real world tasks.</a:t>
            </a:r>
            <a:endParaRPr b="0" lang="en-US" sz="17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33"/>
                </a:solidFill>
                <a:latin typeface="Century Gothic"/>
              </a:rPr>
              <a:t>What does the OPI test?</a:t>
            </a:r>
            <a:endParaRPr b="0" lang="en-US" sz="17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33"/>
                </a:solidFill>
                <a:latin typeface="Century Gothic"/>
              </a:rPr>
              <a:t>Testing what an individual </a:t>
            </a:r>
            <a:r>
              <a:rPr b="1" lang="en-US" sz="1700" spc="-1" strike="noStrike">
                <a:solidFill>
                  <a:srgbClr val="333333"/>
                </a:solidFill>
                <a:latin typeface="Century Gothic"/>
              </a:rPr>
              <a:t>can do</a:t>
            </a:r>
            <a:r>
              <a:rPr b="0" lang="en-US" sz="1700" spc="-1" strike="noStrike">
                <a:solidFill>
                  <a:srgbClr val="333333"/>
                </a:solidFill>
                <a:latin typeface="Century Gothic"/>
              </a:rPr>
              <a:t> with what one knows.</a:t>
            </a:r>
            <a:endParaRPr b="0" lang="en-US" sz="17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33"/>
                </a:solidFill>
                <a:latin typeface="Century Gothic"/>
              </a:rPr>
              <a:t>Testing the unrehearsed speakers’ demonstrated ability to use language to accomplish real life tasks. </a:t>
            </a:r>
            <a:endParaRPr b="0" lang="en-US" sz="17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59" name="Slide Number Placeholder 1"/>
          <p:cNvSpPr/>
          <p:nvPr/>
        </p:nvSpPr>
        <p:spPr>
          <a:xfrm>
            <a:off x="8256600" y="360360"/>
            <a:ext cx="506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0AC58-5638-4894-845B-956796294FFB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 </a:t>
            </a: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Assessments types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pic>
        <p:nvPicPr>
          <p:cNvPr id="861" name="Content Placeholder 2" descr=""/>
          <p:cNvPicPr/>
          <p:nvPr/>
        </p:nvPicPr>
        <p:blipFill>
          <a:blip r:embed="rId1"/>
          <a:stretch/>
        </p:blipFill>
        <p:spPr>
          <a:xfrm>
            <a:off x="407880" y="2176560"/>
            <a:ext cx="6566040" cy="3956040"/>
          </a:xfrm>
          <a:prstGeom prst="rect">
            <a:avLst/>
          </a:prstGeom>
          <a:ln w="0">
            <a:noFill/>
          </a:ln>
        </p:spPr>
      </p:pic>
      <p:sp>
        <p:nvSpPr>
          <p:cNvPr id="862" name="Slide Number Placeholder 1"/>
          <p:cNvSpPr/>
          <p:nvPr/>
        </p:nvSpPr>
        <p:spPr>
          <a:xfrm>
            <a:off x="8256600" y="360360"/>
            <a:ext cx="506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D8452-4A5F-4024-8130-90CDA68CE63B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entury Gothic"/>
              </a:rPr>
              <a:t>Testing for proficiency along the ACTFL Proficiency Guidelines</a:t>
            </a:r>
            <a:endParaRPr b="0" lang="en-US" sz="32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e ACTFL proficiency guidelines allow to compare a person’s unrehearsed ability against a set of language descriptor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601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7070"/>
                </a:solidFill>
                <a:latin typeface="Century Gothic"/>
              </a:rPr>
              <a:t>Please see document #1, p. 2 of informational handout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Description of proficiency along a continuum from the very top (full professional proficiency) of a scale to the very bottom (little or no functional ability).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65" name="Slide Number Placeholder 1"/>
          <p:cNvSpPr/>
          <p:nvPr/>
        </p:nvSpPr>
        <p:spPr>
          <a:xfrm>
            <a:off x="8256600" y="360360"/>
            <a:ext cx="506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01CCF-4BF8-4889-82E2-92EAD4D6AD20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6840" y="266760"/>
            <a:ext cx="6730920" cy="66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The ACTFL Rating Scale 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pic>
        <p:nvPicPr>
          <p:cNvPr id="867" name="Content Placeholder 5" descr=""/>
          <p:cNvPicPr/>
          <p:nvPr/>
        </p:nvPicPr>
        <p:blipFill>
          <a:blip r:embed="rId1"/>
          <a:srcRect l="0" t="3398" r="0" b="3398"/>
          <a:stretch/>
        </p:blipFill>
        <p:spPr>
          <a:xfrm>
            <a:off x="361800" y="1581120"/>
            <a:ext cx="8321760" cy="5006880"/>
          </a:xfrm>
          <a:prstGeom prst="rect">
            <a:avLst/>
          </a:prstGeom>
          <a:ln w="0">
            <a:noFill/>
          </a:ln>
        </p:spPr>
      </p:pic>
      <p:sp>
        <p:nvSpPr>
          <p:cNvPr id="868" name="Content Placeholder 2"/>
          <p:cNvSpPr/>
          <p:nvPr/>
        </p:nvSpPr>
        <p:spPr>
          <a:xfrm>
            <a:off x="361800" y="1581120"/>
            <a:ext cx="6508800" cy="39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9" name="Slide Number Placeholder 1"/>
          <p:cNvSpPr/>
          <p:nvPr/>
        </p:nvSpPr>
        <p:spPr>
          <a:xfrm>
            <a:off x="8256600" y="360360"/>
            <a:ext cx="506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3C279-2327-44C1-92BD-7561A504E253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Uses of the ACTFL OPI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71" name=""/>
          <p:cNvSpPr txBox="1"/>
          <p:nvPr/>
        </p:nvSpPr>
        <p:spPr>
          <a:xfrm>
            <a:off x="457200" y="1485720"/>
            <a:ext cx="6508800" cy="46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e ACTFL OPI is currently being used for a variety of purposes in Academia, the business world and in government. 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72" name="Slide Number Placeholder 1"/>
          <p:cNvSpPr/>
          <p:nvPr/>
        </p:nvSpPr>
        <p:spPr>
          <a:xfrm>
            <a:off x="8256600" y="360360"/>
            <a:ext cx="506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BBFEF-76B7-4446-A1CB-62D723649EBD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Why is the OPI important for  language institutions?   1/2 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456840" y="1485720"/>
            <a:ext cx="7015320" cy="51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33"/>
                </a:solidFill>
                <a:latin typeface="Century Gothic"/>
              </a:rPr>
              <a:t>1/ Articulation among language programs:</a:t>
            </a:r>
            <a:r>
              <a:rPr b="0" lang="en-US" sz="1500" spc="-1" strike="noStrike">
                <a:solidFill>
                  <a:srgbClr val="333333"/>
                </a:solidFill>
                <a:latin typeface="Century Gothic"/>
              </a:rPr>
              <a:t>	</a:t>
            </a:r>
            <a:endParaRPr b="0" lang="en-US" sz="1500" spc="-1" strike="noStrike">
              <a:solidFill>
                <a:srgbClr val="333333"/>
              </a:solidFill>
              <a:latin typeface="Century Gothic"/>
            </a:endParaRPr>
          </a:p>
          <a:p>
            <a:pPr lvl="1" marL="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33"/>
                </a:solidFill>
                <a:latin typeface="Century Gothic"/>
              </a:rPr>
              <a:t>	</a:t>
            </a:r>
            <a:r>
              <a:rPr b="0" lang="en-US" sz="1500" spc="-1" strike="noStrike">
                <a:solidFill>
                  <a:srgbClr val="333333"/>
                </a:solidFill>
                <a:latin typeface="Wingdings"/>
                <a:ea typeface="Wingdings"/>
              </a:rPr>
              <a:t></a:t>
            </a:r>
            <a:r>
              <a:rPr b="0" lang="en-US" sz="1500" spc="-1" strike="noStrike">
                <a:solidFill>
                  <a:srgbClr val="333333"/>
                </a:solidFill>
                <a:latin typeface="Century Gothic"/>
              </a:rPr>
              <a:t> </a:t>
            </a:r>
            <a:r>
              <a:rPr b="0" lang="en-US" sz="1500" spc="-1" strike="noStrike">
                <a:solidFill>
                  <a:srgbClr val="333333"/>
                </a:solidFill>
                <a:latin typeface="Century Gothic"/>
              </a:rPr>
              <a:t>Admission into programs</a:t>
            </a:r>
            <a:endParaRPr b="0" lang="en-US" sz="15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33"/>
                </a:solidFill>
                <a:latin typeface="Century Gothic"/>
              </a:rPr>
              <a:t> </a:t>
            </a:r>
            <a:r>
              <a:rPr b="0" lang="en-US" sz="1500" spc="-1" strike="noStrike">
                <a:solidFill>
                  <a:srgbClr val="333333"/>
                </a:solidFill>
                <a:latin typeface="Century Gothic"/>
              </a:rPr>
              <a:t>Placement within a language sequence</a:t>
            </a:r>
            <a:endParaRPr b="0" lang="en-US" sz="15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33"/>
                </a:solidFill>
                <a:latin typeface="Century Gothic"/>
              </a:rPr>
              <a:t> </a:t>
            </a:r>
            <a:r>
              <a:rPr b="0" lang="en-US" sz="1500" spc="-1" strike="noStrike">
                <a:solidFill>
                  <a:srgbClr val="333333"/>
                </a:solidFill>
                <a:latin typeface="Century Gothic"/>
              </a:rPr>
              <a:t>Determination of the fulfillment of exit</a:t>
            </a:r>
            <a:endParaRPr b="0" lang="en-US" sz="15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33"/>
                </a:solidFill>
                <a:latin typeface="Wingdings"/>
                <a:ea typeface="Wingdings"/>
              </a:rPr>
              <a:t></a:t>
            </a:r>
            <a:r>
              <a:rPr b="0" lang="en-US" sz="1500" spc="-1" strike="noStrike">
                <a:solidFill>
                  <a:srgbClr val="333333"/>
                </a:solidFill>
                <a:latin typeface="Century Gothic"/>
              </a:rPr>
              <a:t> </a:t>
            </a:r>
            <a:r>
              <a:rPr b="0" lang="en-US" sz="1500" spc="-1" strike="noStrike">
                <a:solidFill>
                  <a:srgbClr val="333333"/>
                </a:solidFill>
                <a:latin typeface="Century Gothic"/>
              </a:rPr>
              <a:t>Graduation requirements </a:t>
            </a:r>
            <a:endParaRPr b="0" lang="en-US" sz="15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333333"/>
              </a:solidFill>
              <a:latin typeface="Century Gothic"/>
            </a:endParaRPr>
          </a:p>
          <a:p>
            <a:pPr lvl="1" marL="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33"/>
                </a:solidFill>
                <a:latin typeface="Century Gothic"/>
              </a:rPr>
              <a:t>2/ Departmental long range curriculum planning:</a:t>
            </a:r>
            <a:endParaRPr b="0" lang="en-US" sz="1500" spc="-1" strike="noStrike">
              <a:solidFill>
                <a:srgbClr val="333333"/>
              </a:solidFill>
              <a:latin typeface="Century Gothic"/>
            </a:endParaRPr>
          </a:p>
          <a:p>
            <a:pPr lvl="1" marL="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33"/>
                </a:solidFill>
                <a:latin typeface="Century Gothic"/>
              </a:rPr>
              <a:t>	</a:t>
            </a:r>
            <a:r>
              <a:rPr b="0" lang="en-US" sz="1500" spc="-1" strike="noStrike">
                <a:solidFill>
                  <a:srgbClr val="333333"/>
                </a:solidFill>
                <a:latin typeface="Century Gothic"/>
              </a:rPr>
              <a:t>Establishing </a:t>
            </a:r>
            <a:r>
              <a:rPr b="1" lang="en-US" sz="1500" spc="-1" strike="noStrike">
                <a:solidFill>
                  <a:srgbClr val="333333"/>
                </a:solidFill>
                <a:latin typeface="Century Gothic"/>
              </a:rPr>
              <a:t>proficiency outcomes </a:t>
            </a:r>
            <a:r>
              <a:rPr b="0" lang="en-US" sz="1500" spc="-1" strike="noStrike">
                <a:solidFill>
                  <a:srgbClr val="333333"/>
                </a:solidFill>
                <a:latin typeface="Century Gothic"/>
              </a:rPr>
              <a:t>provides a framework for </a:t>
            </a:r>
            <a:r>
              <a:rPr b="0" lang="en-US" sz="1500" spc="-1" strike="noStrike">
                <a:solidFill>
                  <a:srgbClr val="333333"/>
                </a:solidFill>
                <a:latin typeface="Century Gothic"/>
              </a:rPr>
              <a:t>	</a:t>
            </a:r>
            <a:r>
              <a:rPr b="0" lang="en-US" sz="1500" spc="-1" strike="noStrike">
                <a:solidFill>
                  <a:srgbClr val="333333"/>
                </a:solidFill>
                <a:latin typeface="Century Gothic"/>
              </a:rPr>
              <a:t>design and development of curriculum for language </a:t>
            </a:r>
            <a:r>
              <a:rPr b="0" lang="en-US" sz="1500" spc="-1" strike="noStrike">
                <a:solidFill>
                  <a:srgbClr val="333333"/>
                </a:solidFill>
                <a:latin typeface="Century Gothic"/>
              </a:rPr>
              <a:t>	</a:t>
            </a:r>
            <a:r>
              <a:rPr b="0" lang="en-US" sz="1500" spc="-1" strike="noStrike">
                <a:solidFill>
                  <a:srgbClr val="333333"/>
                </a:solidFill>
                <a:latin typeface="Century Gothic"/>
              </a:rPr>
              <a:t>courses and sequences of language courses.</a:t>
            </a:r>
            <a:endParaRPr b="0" lang="en-US" sz="1500" spc="-1" strike="noStrike">
              <a:solidFill>
                <a:srgbClr val="333333"/>
              </a:solidFill>
              <a:latin typeface="Century Gothic"/>
            </a:endParaRPr>
          </a:p>
          <a:p>
            <a:pPr lvl="1" marL="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33"/>
                </a:solidFill>
                <a:latin typeface="Century Gothic"/>
              </a:rPr>
              <a:t>	</a:t>
            </a:r>
            <a:r>
              <a:rPr b="0" lang="en-US" sz="1500" spc="-1" strike="noStrike">
                <a:solidFill>
                  <a:srgbClr val="333333"/>
                </a:solidFill>
                <a:latin typeface="Century Gothic"/>
              </a:rPr>
              <a:t> </a:t>
            </a:r>
            <a:r>
              <a:rPr b="0" lang="en-US" sz="1500" spc="-1" strike="noStrike">
                <a:solidFill>
                  <a:srgbClr val="333333"/>
                </a:solidFill>
                <a:latin typeface="Wingdings"/>
                <a:ea typeface="Wingdings"/>
              </a:rPr>
              <a:t></a:t>
            </a:r>
            <a:r>
              <a:rPr b="0" lang="en-US" sz="1500" spc="-1" strike="noStrike">
                <a:solidFill>
                  <a:srgbClr val="333333"/>
                </a:solidFill>
                <a:latin typeface="Century Gothic"/>
              </a:rPr>
              <a:t> </a:t>
            </a:r>
            <a:r>
              <a:rPr b="0" lang="en-US" sz="1500" spc="-1" strike="noStrike">
                <a:solidFill>
                  <a:srgbClr val="333333"/>
                </a:solidFill>
                <a:latin typeface="Century Gothic"/>
              </a:rPr>
              <a:t>Establishing a common OPI level to be reached for </a:t>
            </a:r>
            <a:endParaRPr b="0" lang="en-US" sz="1500" spc="-1" strike="noStrike">
              <a:solidFill>
                <a:srgbClr val="333333"/>
              </a:solidFill>
              <a:latin typeface="Century Gothic"/>
            </a:endParaRPr>
          </a:p>
          <a:p>
            <a:pPr lvl="1" marL="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33"/>
                </a:solidFill>
                <a:latin typeface="Century Gothic"/>
              </a:rPr>
              <a:t>                  </a:t>
            </a:r>
            <a:r>
              <a:rPr b="0" lang="en-US" sz="1500" spc="-1" strike="noStrike">
                <a:solidFill>
                  <a:srgbClr val="333333"/>
                </a:solidFill>
                <a:latin typeface="Century Gothic"/>
              </a:rPr>
              <a:t>all programs in a given department </a:t>
            </a:r>
            <a:endParaRPr b="0" lang="en-US" sz="1500" spc="-1" strike="noStrike">
              <a:solidFill>
                <a:srgbClr val="333333"/>
              </a:solidFill>
              <a:latin typeface="Century Gothic"/>
            </a:endParaRPr>
          </a:p>
          <a:p>
            <a:pPr lvl="1" marL="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33"/>
                </a:solidFill>
                <a:latin typeface="Century Gothic"/>
              </a:rPr>
              <a:t>             </a:t>
            </a:r>
            <a:r>
              <a:rPr b="0" lang="en-US" sz="1500" spc="-1" strike="noStrike">
                <a:solidFill>
                  <a:srgbClr val="333333"/>
                </a:solidFill>
                <a:latin typeface="Wingdings"/>
                <a:ea typeface="Wingdings"/>
              </a:rPr>
              <a:t></a:t>
            </a:r>
            <a:r>
              <a:rPr b="0" lang="en-US" sz="1500" spc="-1" strike="noStrike">
                <a:solidFill>
                  <a:srgbClr val="333333"/>
                </a:solidFill>
                <a:latin typeface="Century Gothic"/>
              </a:rPr>
              <a:t> </a:t>
            </a:r>
            <a:r>
              <a:rPr b="0" lang="en-US" sz="1500" spc="-1" strike="noStrike">
                <a:solidFill>
                  <a:srgbClr val="333333"/>
                </a:solidFill>
                <a:latin typeface="Century Gothic"/>
              </a:rPr>
              <a:t>Choice of textbooks (</a:t>
            </a:r>
            <a:r>
              <a:rPr b="0" lang="en-US" sz="1500" spc="-1" strike="noStrike">
                <a:solidFill>
                  <a:srgbClr val="ff7070"/>
                </a:solidFill>
                <a:latin typeface="Century Gothic"/>
              </a:rPr>
              <a:t>document #2, pp. 4-11 in the </a:t>
            </a:r>
            <a:endParaRPr b="0" lang="en-US" sz="1500" spc="-1" strike="noStrike">
              <a:solidFill>
                <a:srgbClr val="333333"/>
              </a:solidFill>
              <a:latin typeface="Century Gothic"/>
            </a:endParaRPr>
          </a:p>
          <a:p>
            <a:pPr lvl="1" marL="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7070"/>
                </a:solidFill>
                <a:latin typeface="Century Gothic"/>
              </a:rPr>
              <a:t>                  </a:t>
            </a:r>
            <a:r>
              <a:rPr b="0" lang="en-US" sz="1500" spc="-1" strike="noStrike">
                <a:solidFill>
                  <a:srgbClr val="ff7070"/>
                </a:solidFill>
                <a:latin typeface="Century Gothic"/>
              </a:rPr>
              <a:t>informational handout</a:t>
            </a:r>
            <a:r>
              <a:rPr b="0" lang="en-US" sz="1500" spc="-1" strike="noStrike">
                <a:solidFill>
                  <a:srgbClr val="333333"/>
                </a:solidFill>
                <a:latin typeface="Century Gothic"/>
              </a:rPr>
              <a:t>)!</a:t>
            </a:r>
            <a:endParaRPr b="0" lang="en-US" sz="1500" spc="-1" strike="noStrike">
              <a:solidFill>
                <a:srgbClr val="333333"/>
              </a:solidFill>
              <a:latin typeface="Century Gothic"/>
            </a:endParaRPr>
          </a:p>
          <a:p>
            <a:pPr lvl="1" marL="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333333"/>
              </a:solidFill>
              <a:latin typeface="Century Gothic"/>
            </a:endParaRPr>
          </a:p>
          <a:p>
            <a:pPr lvl="1" marL="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33"/>
                </a:solidFill>
                <a:latin typeface="Century Gothic"/>
              </a:rPr>
              <a:t>3/ Evaluating the effectiveness of language programs.</a:t>
            </a:r>
            <a:endParaRPr b="0" lang="en-US" sz="1500" spc="-1" strike="noStrike">
              <a:solidFill>
                <a:srgbClr val="333333"/>
              </a:solidFill>
              <a:latin typeface="Century Gothic"/>
            </a:endParaRPr>
          </a:p>
          <a:p>
            <a:pPr lvl="1" marL="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333333"/>
              </a:solidFill>
              <a:latin typeface="Century Gothic"/>
            </a:endParaRPr>
          </a:p>
          <a:p>
            <a:pPr lvl="1" marL="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33"/>
                </a:solidFill>
                <a:latin typeface="Century Gothic"/>
              </a:rPr>
              <a:t>4/ Teacher Certification Boards and Teacher Certification.</a:t>
            </a:r>
            <a:endParaRPr b="0" lang="en-US" sz="1500" spc="-1" strike="noStrike">
              <a:solidFill>
                <a:srgbClr val="333333"/>
              </a:solidFill>
              <a:latin typeface="Century Gothic"/>
            </a:endParaRPr>
          </a:p>
          <a:p>
            <a:pPr lvl="1" marL="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333333"/>
              </a:solidFill>
              <a:latin typeface="Century Gothic"/>
            </a:endParaRPr>
          </a:p>
          <a:p>
            <a:pPr lvl="1" marL="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75" name="Slide Number Placeholder 1"/>
          <p:cNvSpPr/>
          <p:nvPr/>
        </p:nvSpPr>
        <p:spPr>
          <a:xfrm>
            <a:off x="8256600" y="360360"/>
            <a:ext cx="506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1385E-71F7-4DBE-972E-8A1CF64DDA7E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3T01:07:36Z</dcterms:created>
  <dc:creator>Tom </dc:creator>
  <dc:description/>
  <dc:language>en-US</dc:language>
  <cp:lastModifiedBy>Nazareth</cp:lastModifiedBy>
  <cp:lastPrinted>2013-05-03T06:30:03Z</cp:lastPrinted>
  <dcterms:modified xsi:type="dcterms:W3CDTF">2014-03-08T17:34:46Z</dcterms:modified>
  <cp:revision>193</cp:revision>
  <dc:subject/>
  <dc:title>Proficiency: one’s functional language ability</dc:title>
</cp:coreProperties>
</file>